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2A3-FD1B-4894-A4CC-E7C1007C1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F480-99F5-4BAF-900A-443C21071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E80-D905-47EA-B9B6-6A55A1725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F68-37BD-4B18-9600-C1A688E7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  All these pages may not be required for personal websites that are just created as a hob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FAAA-F7AD-46BF-A940-B232D1CF2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E809-FEF0-4E0B-BF99-FC7FB3C6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499-4A1A-4AC8-AF15-FA70BE3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324-F46B-4B87-96FE-F8E39C66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E18-2127-4738-87A1-DD5AFF9F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087-83C3-4A2A-87A7-455B56DC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0382-FE20-4E06-8701-BF73B22A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7920-A59A-40BD-937E-CC90054C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BAC-B55F-47CF-9D0F-FD58A89A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90AB-6F87-4FDC-8F90-6AC8986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B7D3-2262-4A09-87F0-A996CA3A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16F6-73C9-4366-A08C-2E10C46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5FB-7076-4F80-BCDA-DF07C2F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3138-7618-4950-B3CA-1834DCCE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02B9-069A-4D48-92DE-1400C2E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25C5-975A-40F7-804A-70E6E45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70D1-8309-4BFD-B87F-D341FB07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EDC5-E448-41B5-992B-B898A6DE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CA3-3C00-4365-93F5-522FB8F5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491-073B-40F1-BC49-5CA944E3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BF6-4FC4-4030-9B88-C2291454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B5C-7C0C-452D-B7B2-07C8572C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FA0-DBFE-4956-A036-3AD642EE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934-CC61-4933-9736-A86977CF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162-970B-4C74-97F9-140DC07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66B-9E66-4BED-BF4E-F74D975D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B2E3-DD7E-439D-8F43-F09039B41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3.02G Website Components</a:t>
            </a:r>
            <a:endParaRPr b="0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99760" y="4492800"/>
            <a:ext cx="723924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ebsite Compon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ebsite MUST contain an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Index/Home Pag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usiness website should contai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ntact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ivacy Polic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website may contai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plash P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te M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ome/Index P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ically loads when URL is keyed into the web brows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ometimes called the front p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es the website and communicates the purpose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rves as an index for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uld create a positive first impression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d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 get a second chance to make a good first impression!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ome/Index Pag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54120" y="1827000"/>
            <a:ext cx="70833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uld be named index.htm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major options for the website should be shown on home pag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cess to home page should be possible from any other page on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spcAft>
                <a:spcPts val="774"/>
              </a:spcAft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home page should contain navigational links or menus to provide viewers with the links they will need to navigate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04560" y="329760"/>
            <a:ext cx="79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ges a Business Websit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ould Cont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8320" indent="-59832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out U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age defines the website’s purpose and goa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8320" indent="-59832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ntact U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page containing contact information to make it easy for viewers to communicate with the busi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8320" indent="-59832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ivacy Poli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page informs viewers how their private information will be handle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ges the Website May Contai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plas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age - an introduction page that appears while the website is loading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information that is needed only once per visit to the s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used as a promotion or lead-in to the site’s home pag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ite Ma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– a basic skeleton of the website intended to help users quickly locate information on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lash Pag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lash pages can be used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how a progress bar indicating the website is loading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ll the user what kind of browser or software they need to view the 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ow users to choose their language or country’s version of the websi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plash Page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3480" y="1954080"/>
            <a:ext cx="335124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st load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s all information on the page quick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tches the user’s attention for a short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4320" y="1969560"/>
            <a:ext cx="32907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prevent search engines from accessing the actual s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82560" indent="-27936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y readers do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like splash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46:23Z</dcterms:created>
  <dc:creator>Lee O'Neal</dc:creator>
  <dc:description/>
  <dc:language>en-US</dc:language>
  <cp:lastModifiedBy>ycsadmin</cp:lastModifiedBy>
  <dcterms:modified xsi:type="dcterms:W3CDTF">2011-06-25T00:25:58Z</dcterms:modified>
  <cp:revision>56</cp:revision>
  <dc:subject/>
  <dc:title>Web Site Development  Competency 8 Create a multimedia web site.</dc:title>
</cp:coreProperties>
</file>